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79776"/>
        <c:axId val="52024068"/>
      </c:barChart>
      <c:catAx>
        <c:axId val="49579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4068"/>
        <c:crosses val="autoZero"/>
        <c:auto val="1"/>
        <c:lblAlgn val="ctr"/>
        <c:lblOffset val="100"/>
        <c:noMultiLvlLbl val="0"/>
      </c:catAx>
      <c:valAx>
        <c:axId val="52024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79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F25-88C0-4F9F-91BA-C4329467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DDE-A005-4EE2-800C-80BF943D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D69-E0E4-4D0A-98AC-5770479D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12A-3556-4739-A825-ED2196EE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E27-E01F-482F-980C-AE18E7D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9A0-470C-456D-B9FB-378EC6C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01D-EF9D-4F6B-9F6A-58920455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67C-C676-4A46-B0EF-46FEACE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C49-8A59-4DC2-927B-6CA30BD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4C5-2495-499E-A4CE-C2E55D47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1AA-AC47-469F-97A4-32216198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5B8-1603-4AA6-8536-CF8407C6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32BFB-852A-48E7-B303-F0D6F36D25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